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40DD-FE19-40E9-B120-1B3CD9D4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AF4-1CAB-445A-94B9-078E9320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A73-CB79-498B-8AC2-2927FF2F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894-B593-4ACD-ACD1-6F08D536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354D-9A80-4D60-BBF4-90861A26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A45-9BAE-46EC-9610-F651C32E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AD4B-0DA2-4CB9-94CB-D13077AE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4E89-0D66-49B6-AD5B-2641992A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3A4-FA6D-4019-97C4-D9EEA0E2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FA4-4DF7-4754-B31F-FB801C76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30D-B67A-4804-B7F3-854ABEA8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943-EBE3-4B69-9D31-062828CB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CFF6-E5A0-4674-8030-D9CAA240B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Video/Building_Blocks_of_Matter_.flv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Video/Compounds.flv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Changing </a:t>
            </a: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tt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ter can be changed two way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hysical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hys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hysic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Arial"/>
              </a:rPr>
              <a:t>Chemic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Chemic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Chem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Matter is conserved </a:t>
            </a:r>
            <a:r>
              <a:rPr b="0" lang="en-US" sz="32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ype of atoms does not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Nothing is created or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Mass is conserved </a:t>
            </a:r>
            <a:r>
              <a:rPr b="0" lang="en-US" sz="32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mount of atoms cannot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Nothing is created or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Chem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To show conservation of mass </a:t>
            </a:r>
            <a:r>
              <a:rPr b="0" lang="en-US" sz="32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Balance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Make sure there are the same number of each type of atom in the products and in the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9900"/>
                </a:solidFill>
                <a:uFillTx/>
                <a:latin typeface="Arial"/>
              </a:rPr>
              <a:t>Balancing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38080" y="2590920"/>
            <a:ext cx="746784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The equation for the burning of methane gas in oxygen 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CH</a:t>
            </a:r>
            <a:r>
              <a:rPr b="0" lang="en-US" sz="3600" spc="-1" strike="noStrike" baseline="-25000">
                <a:solidFill>
                  <a:srgbClr val="ff9900"/>
                </a:solidFill>
                <a:latin typeface="Arial"/>
                <a:ea typeface="ＭＳ Ｐゴシック"/>
              </a:rPr>
              <a:t>4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 + 2 O</a:t>
            </a:r>
            <a:r>
              <a:rPr b="0" lang="en-US" sz="3600" spc="-1" strike="noStrike" baseline="-25000">
                <a:solidFill>
                  <a:srgbClr val="ff9900"/>
                </a:solidFill>
                <a:latin typeface="Arial"/>
                <a:ea typeface="ＭＳ Ｐゴシック"/>
              </a:rPr>
              <a:t>2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 → CO</a:t>
            </a:r>
            <a:r>
              <a:rPr b="0" lang="en-US" sz="3600" spc="-1" strike="noStrike" baseline="-25000">
                <a:solidFill>
                  <a:srgbClr val="ff9900"/>
                </a:solidFill>
                <a:latin typeface="Arial"/>
                <a:ea typeface="ＭＳ Ｐゴシック"/>
              </a:rPr>
              <a:t>2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 + 2 H</a:t>
            </a:r>
            <a:r>
              <a:rPr b="0" lang="en-US" sz="3600" spc="-1" strike="noStrike" baseline="-25000">
                <a:solidFill>
                  <a:srgbClr val="ff9900"/>
                </a:solidFill>
                <a:latin typeface="Arial"/>
                <a:ea typeface="ＭＳ Ｐゴシック"/>
              </a:rPr>
              <a:t>2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2590920" y="457200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"/>
          <p:cNvSpPr/>
          <p:nvPr/>
        </p:nvSpPr>
        <p:spPr>
          <a:xfrm>
            <a:off x="6172200" y="4038480"/>
            <a:ext cx="5335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371600" y="5410080"/>
            <a:ext cx="289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ub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hows # of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 flipV="1">
            <a:off x="2819520" y="5105520"/>
            <a:ext cx="0" cy="38088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495680" y="541008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hows # of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6477120" y="5105520"/>
            <a:ext cx="0" cy="38088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9900"/>
                </a:solidFill>
                <a:uFillTx/>
                <a:latin typeface="Arial"/>
              </a:rPr>
              <a:t>Balancing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No subscript or coefficient is understood to b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+ 2 O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→ CO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+ 2 H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+ 2 O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→ C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+ 2 H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1 C    </a:t>
            </a:r>
            <a:r>
              <a:rPr b="0" lang="en-US" sz="3600" spc="-1" strike="noStrike">
                <a:solidFill>
                  <a:srgbClr val="ff99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     1 C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4 H    </a:t>
            </a:r>
            <a:r>
              <a:rPr b="0" lang="en-US" sz="3600" spc="-1" strike="noStrike">
                <a:solidFill>
                  <a:srgbClr val="ff99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     4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4 O    </a:t>
            </a:r>
            <a:r>
              <a:rPr b="0" lang="en-US" sz="3600" spc="-1" strike="noStrike">
                <a:solidFill>
                  <a:srgbClr val="ff99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     4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00"/>
                </a:solidFill>
                <a:uFillTx/>
                <a:latin typeface="Arial"/>
              </a:rPr>
              <a:t>Types of Chemic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ynthesis Reaction</a:t>
            </a:r>
            <a:br>
              <a:rPr sz="32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2 or more simple substances combine to form a more complex substanc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+B 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compositio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 more complex substance breaks down into its more simple parts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AB </a:t>
            </a:r>
            <a:r>
              <a:rPr b="0" lang="en-US" sz="28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A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00"/>
                </a:solidFill>
                <a:uFillTx/>
                <a:latin typeface="Arial"/>
              </a:rPr>
              <a:t>Types of Chemic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placement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B + CD 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AD + 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Arial"/>
              </a:rPr>
              <a:t>Phys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T CHANGE THE TYPE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Nothing new or different is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ould be a change in: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hange in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ha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3200400" y="3962520"/>
            <a:ext cx="304920" cy="121896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86200" y="4343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Examples of Phys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Boi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ree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Dissol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Bre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Making a </a:t>
            </a:r>
            <a:r>
              <a:rPr b="1" lang="en-US" sz="3200" spc="-1" strike="noStrike" u="sng">
                <a:solidFill>
                  <a:srgbClr val="d60093"/>
                </a:solidFill>
                <a:uFillTx/>
                <a:latin typeface="Arial"/>
              </a:rPr>
              <a:t>mi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2 or more types of matter (substances) mix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Not in specific a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Can be separated phys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Chem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toms have electrons arranged in energy levels or energy sh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Electrons in the last (outermost) shell are called 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valenc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Valence electrons let atoms 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bond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with other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Ionic 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Gaining or losing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Covalent 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Sharing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hem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toms that bond form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May be the same type of atom 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Different types of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Different types </a:t>
            </a:r>
            <a:r>
              <a:rPr b="0" lang="en-US" sz="32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Chem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Molecules can bond and </a:t>
            </a:r>
            <a:r>
              <a:rPr b="0" lang="ja-JP" sz="3200" spc="-1" strike="noStrike">
                <a:solidFill>
                  <a:srgbClr val="00808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unbond</a:t>
            </a:r>
            <a:r>
              <a:rPr b="0" lang="ja-JP" sz="3200" spc="-1" strike="noStrike">
                <a:solidFill>
                  <a:srgbClr val="00808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toms can re-arranged in different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CaCO</a:t>
            </a:r>
            <a:r>
              <a:rPr b="0" lang="en-US" sz="2800" spc="-1" strike="noStrike" baseline="-25000">
                <a:solidFill>
                  <a:srgbClr val="00808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(1 atom Ca, 1 atom C, 3 atoms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dd heat to re-arranged the ato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C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808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Chem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Evidence of a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rmation of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rmation of prec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Change in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Change i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Endother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Absorbs heat energy (gets c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Exother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Releases heat energy (gets 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Chem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Chemical reactions can be represented by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CaCO</a:t>
            </a:r>
            <a:r>
              <a:rPr b="0" lang="en-US" sz="3200" spc="-1" strike="noStrike" baseline="-25000">
                <a:solidFill>
                  <a:srgbClr val="00808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CaO + CO</a:t>
            </a:r>
            <a:r>
              <a:rPr b="0" lang="en-US" sz="3200" spc="-1" strike="noStrike" baseline="-25000">
                <a:solidFill>
                  <a:srgbClr val="00808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 rot="5400000">
            <a:off x="2971080" y="3581280"/>
            <a:ext cx="533520" cy="1143000"/>
          </a:xfrm>
          <a:custGeom>
            <a:avLst/>
            <a:gdLst>
              <a:gd name="textAreaLeft" fmla="*/ 0 w 533520"/>
              <a:gd name="textAreaRight" fmla="*/ 19260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 rot="5400000">
            <a:off x="5333400" y="3047760"/>
            <a:ext cx="533520" cy="2210040"/>
          </a:xfrm>
          <a:custGeom>
            <a:avLst/>
            <a:gdLst>
              <a:gd name="textAreaLeft" fmla="*/ 0 w 533520"/>
              <a:gd name="textAreaRight" fmla="*/ 192600 w 53352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362320" y="4724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Reactants             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Chem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toms are re-arranged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created or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Law of Conservation of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Law of Conservation of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23:32:11Z</dcterms:created>
  <dc:creator>jeremy</dc:creator>
  <dc:description/>
  <dc:language>en-US</dc:language>
  <cp:lastModifiedBy>Meldon Jeremy</cp:lastModifiedBy>
  <dcterms:modified xsi:type="dcterms:W3CDTF">2011-11-12T08:35:32Z</dcterms:modified>
  <cp:revision>44</cp:revision>
  <dc:subject/>
  <dc:title>Changing Matter</dc:title>
</cp:coreProperties>
</file>